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97A2-FCCE-49E3-A23C-3E564D9F2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BCF0-F88E-4E5F-9F00-E97F5919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8627-3719-4D8A-9686-D06E8C46A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1095-E3BA-4C72-B6C5-5D31A2338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0BE4-B307-4F4D-B870-8F6506B3B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C9A7-C328-4A09-AE00-35938015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1B63-5B6E-4C9E-86C0-F4B54792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A10E-1A4F-4266-A569-E1C1A95E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1162-41A4-44BE-8B21-21E081D8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908C-C2C8-426B-97B6-0465EDA9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5ED8-D358-4B19-933E-13D71AE7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C2F0-A166-4CA1-90AB-E8493BCB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D0C3-89F5-4DAD-88AD-52F12ACD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F771-BC5B-45B2-A0DD-979EA6A9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8B10-5B6D-46FA-A6FF-B75B2B24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CF13-143C-41AE-A406-3DB886C50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6723-4E14-4B3A-A113-A1B4FAA2E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A7F57B-252C-4E2E-ABFF-A0EBC8D92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76858A-7F75-4BBA-8709-749CBC5D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B770D2-88BE-453D-B57A-92CE947B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0C129D-779A-4B12-8A77-0EDD2FA4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194839-DAE2-4F69-8937-94371B4B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2B57-2062-4C4A-9C6B-C904F8EC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4C4805-4731-45CD-A03E-AC87FDE9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A5FC74-078B-4E28-AEC6-CFE87639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A5F914-AD85-4B6F-A66D-372DF8D8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180898-5C64-4DC4-A12E-4D04D2AC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28437E-B802-4840-B4DB-EE6C6BE0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05A80B-9363-42B1-9DBB-DE4B424D2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73E670-E267-47B7-9F16-7431694B7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15CDF-30A2-4968-AA05-7DEB471A2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D6301-A4FC-4ECB-99D0-8ADE4769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0A3A9-0BBF-4257-A72B-32D8F06A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AD52-63EA-40BD-82A4-F85DDD8E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CC024-6694-4BD8-A484-9F83E07D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8CBAD-9740-43E1-83BC-5E069EED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69C6F-91C9-4150-ABD1-4EED51A2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DAD42-1EF8-4C2B-8BB2-111EF534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D221C-8C1B-4360-A37C-66653181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283F4-2374-4238-87D5-37AA3290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1AEF9-0D08-4624-9E1C-0BD76D7E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A416F-BE36-4FF1-AC56-CB00C9920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81258-E61F-4F33-817B-9D352AB00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3411A7-46EC-47B9-B9B8-7B25F84BB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AC16-3566-4E0D-BC10-6B192765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02D41F-51FF-4679-88ED-CB83ACA9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7D73DF-C082-4AEA-9A93-7D03F60A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EA44EE-2433-45DB-AC5C-BA1187E7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B6E570-F01B-49C1-A0F4-64AD12DA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9C2C2A-6CF1-455D-814D-1606211E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492966-6EB8-4C62-9377-1DC171F1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69E3EE-6581-46FA-B8A0-ECE097D3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0575BD-A48C-4607-A506-82E5B038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C79268-DDBF-4ED2-9452-C54A3A2F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92B204-4CDC-4290-96EF-DF8E3D2E9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3AFB-560A-41F2-9321-248234C2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561D58-B4E4-4113-8368-16D18D90E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E70D58-9576-4FD1-A7B3-A1890AF27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3A80E7-4D37-49CE-A2DB-926F1066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47BD2C-F394-4FE4-A4FE-48CA8969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2A1B32-8A69-44EC-BB50-D8DEAD58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6F215A-2B93-4D19-9BF8-98AAF3C1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207A35-232A-4C0D-84A2-BA0633C2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3D91DF-328D-477E-9CE8-66DADC65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55AD33-CE5A-4188-9986-5FB0ACFF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2636CE-7D02-46CD-A881-B2EEA063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66E8-0545-4197-9FC6-85CBC0E2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148E19-AD01-4784-99C1-7A61B55D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231679-5B29-453E-851B-E9F33C0B0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08F951-4C64-464F-81AA-69551FAC4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1A64EB-CCB1-4E1B-9953-2C33FFAE7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D028E6-0DB4-4066-91AC-DB7BAA05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8BFF53-F3DD-456A-844F-D1530E9B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7EC0FC-8894-4688-8B7A-9A25C43B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24BDE6-FADA-438C-8C7A-92BFCE3E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77305A-6235-4335-B616-AEDAF819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592872-FAE0-4D69-BB3D-7398A9DB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1D51-39D4-4E6E-88D1-69D1E763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DE5A17-C248-4804-9AF8-E7C08222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7A3B1C-0E4F-4A72-8D81-0C8698D4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BCED3C-F69D-449A-AA31-0AFE1E8A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6D573A-026C-4394-BB8B-688D262B3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302A2D-585F-43B2-BCF4-C141304DC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BCD4-E499-497E-93B9-ACEB2287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5158-96E4-487A-A73A-2AE03D51F87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ccebd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5e0d6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5e0d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bf0ec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ccebd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bf0ec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ccebd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ccebd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C887-7B14-4A1E-AAA4-980A8B70AD1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CC75-0A7A-40D1-94D9-BD7D6FE895A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ccebd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5e0d6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5e0d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bf0ec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ccebd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bf0ec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ccebd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ccebd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bde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aebde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063C-E75C-493A-BDDF-7124D3618BC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3367-E81E-407C-9B18-F2743CC3845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6BAA-A3FC-4107-9599-D093DEF931F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E948-49A1-48E3-BA67-96F097C61E1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669ba075-e921-11dc-95ff-0800200c9a66/3_19.swf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31640" y="1988640"/>
            <a:ext cx="71262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5439"/>
                </a:solidFill>
                <a:latin typeface="Century Schoolbook"/>
              </a:rPr>
              <a:t>РАБОТА И МОЩНОСТЬ ЭЛЕКТРИЧЕСКОГО ТОКА</a:t>
            </a:r>
            <a:endParaRPr b="0" lang="en-US" sz="4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76a55"/>
                </a:solidFill>
                <a:latin typeface="Century Schoolbook"/>
              </a:rPr>
              <a:t>Ладанова Ирина Владимировн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76a55"/>
                </a:solidFill>
                <a:latin typeface="Century Schoolbook"/>
              </a:rPr>
              <a:t>МБОУ «Верх-Жилинская ООШ»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76a55"/>
                </a:solidFill>
                <a:latin typeface="Century Schoolbook"/>
              </a:rPr>
              <a:t>Косихинский район Алтайский край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3" name=""/>
          <p:cNvGraphicFramePr/>
          <p:nvPr/>
        </p:nvGraphicFramePr>
        <p:xfrm>
          <a:off x="684360" y="1557360"/>
          <a:ext cx="7775280" cy="4392720"/>
        </p:xfrm>
        <a:graphic>
          <a:graphicData uri="http://schemas.openxmlformats.org/drawingml/2006/table">
            <a:tbl>
              <a:tblPr/>
              <a:tblGrid>
                <a:gridCol w="3887640"/>
                <a:gridCol w="3887640"/>
              </a:tblGrid>
              <a:tr h="4392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На уроке я работал(а)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Своей работой на уроке я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Урок для меня показался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За урок я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Мое настроение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Материал урока мне был</a:t>
                      </a:r>
                      <a:br>
                        <a:rPr sz="2400"/>
                      </a:b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Домашнее задание мне кажетс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 / пассивно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олен / не доволен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им / длинным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устал / устал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ло лучше / стало хуже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ятен / не понятен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езен / бесполезен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есен / скучен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им / трудным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есно / не интересно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4" name="Rectangle 1"/>
          <p:cNvSpPr/>
          <p:nvPr/>
        </p:nvSpPr>
        <p:spPr>
          <a:xfrm>
            <a:off x="539640" y="64044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Листок рефлексии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Прямоугольник 3"/>
          <p:cNvSpPr/>
          <p:nvPr/>
        </p:nvSpPr>
        <p:spPr>
          <a:xfrm>
            <a:off x="1928880" y="1357200"/>
            <a:ext cx="69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воей работой на уроке доволен, чувствовал себя комфортно, настроение после урока хороше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611280" y="1357200"/>
            <a:ext cx="1322280" cy="407052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оугольник 5"/>
          <p:cNvSpPr/>
          <p:nvPr/>
        </p:nvSpPr>
        <p:spPr>
          <a:xfrm>
            <a:off x="2000160" y="245916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воей работой на уроке недоволен, чувствовал себя не совсем комфортно, настроение после урока плохо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Прямоугольник 6"/>
          <p:cNvSpPr/>
          <p:nvPr/>
        </p:nvSpPr>
        <p:spPr>
          <a:xfrm>
            <a:off x="2000160" y="3857760"/>
            <a:ext cx="678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остояние на уроке безразличное, урок никак не изменил моего эмоционального состояния и настроения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Rectangle 3"/>
          <p:cNvSpPr/>
          <p:nvPr/>
        </p:nvSpPr>
        <p:spPr>
          <a:xfrm>
            <a:off x="2000160" y="3600"/>
            <a:ext cx="650088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ru-RU" sz="4000" spc="-1" strike="noStrike">
                <a:solidFill>
                  <a:srgbClr val="72a376"/>
                </a:solidFill>
                <a:latin typeface="Times New Roman"/>
                <a:ea typeface="Calibri"/>
              </a:rPr>
              <a:t>Нарисуй настроение</a:t>
            </a:r>
            <a:r>
              <a:rPr b="1" lang="en-US" sz="4000" spc="-1" strike="noStrike">
                <a:solidFill>
                  <a:srgbClr val="72a376"/>
                </a:solidFill>
                <a:latin typeface="Times New Roman"/>
                <a:ea typeface="Calibri"/>
              </a:rPr>
              <a:t>: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WordArt 2"/>
          <p:cNvSpPr txBox="1"/>
          <p:nvPr/>
        </p:nvSpPr>
        <p:spPr>
          <a:xfrm>
            <a:off x="917640" y="1844640"/>
            <a:ext cx="7326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Спасибо за урок!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76a55"/>
                </a:solidFill>
                <a:latin typeface="Century Schoolbook"/>
              </a:rPr>
              <a:t>ЛИТЕРАТУРА /ЭЛЕКТРОННЫЕ РЕСУРСЫ/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6840" y="1125000"/>
            <a:ext cx="8147160" cy="53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изика. 8 класс. - М.: Дрофа, 2009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ромов С.В., Родина Н.А. Физика. 9 класс – М.: Просвещение, 2002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Лукашик В.И., Иванова Е.В. Сборник задач по физике 7-9 класс – М.: Просвещение, 2008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ботарева В.А. Тесты по физике. 8 класс – Издательство «Экзамен», 2009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school47.coi.spb.ru›fizkultminutka.doc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://ladanova.ucoz.com/load/planirovanie/kursy_kruzhki_i_mnogoe_drugoe/uroki_fiziki_8_klass/24-1-0-55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://files.school-collection.edu.ru/dlrstore/669ba075-e921-11dc-95ff-0800200c9a66/3_19.swf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://files.school-collection.edu.ru/dlrstore/669b7963-e921-11dc-95ff-0800200c9a66/index_listing.htm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3" name=""/>
          <p:cNvGraphicFramePr/>
          <p:nvPr/>
        </p:nvGraphicFramePr>
        <p:xfrm>
          <a:off x="466560" y="1405080"/>
          <a:ext cx="8282160" cy="4119480"/>
        </p:xfrm>
        <a:graphic>
          <a:graphicData uri="http://schemas.openxmlformats.org/drawingml/2006/table">
            <a:tbl>
              <a:tblPr/>
              <a:tblGrid>
                <a:gridCol w="1657440"/>
                <a:gridCol w="695520"/>
                <a:gridCol w="696960"/>
                <a:gridCol w="331560"/>
                <a:gridCol w="363600"/>
                <a:gridCol w="696960"/>
                <a:gridCol w="695160"/>
                <a:gridCol w="695520"/>
                <a:gridCol w="696960"/>
                <a:gridCol w="347400"/>
                <a:gridCol w="347760"/>
                <a:gridCol w="552600"/>
                <a:gridCol w="504720"/>
              </a:tblGrid>
              <a:tr h="853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р вопрос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</a:tr>
              <a:tr h="1009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</a:tr>
              <a:tr h="1703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-10 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2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4" name="Прямоугольник 3"/>
          <p:cNvSpPr/>
          <p:nvPr/>
        </p:nvSpPr>
        <p:spPr>
          <a:xfrm>
            <a:off x="2987640" y="26208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юч к тесту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Box 2"/>
          <p:cNvSpPr/>
          <p:nvPr/>
        </p:nvSpPr>
        <p:spPr>
          <a:xfrm>
            <a:off x="642960" y="214200"/>
            <a:ext cx="792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27e56"/>
                </a:solidFill>
                <a:latin typeface="Times New Roman"/>
                <a:ea typeface="Times New Roman"/>
              </a:rPr>
              <a:t>Работа электрического тока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4"/>
              <p:cNvSpPr txBox="1"/>
              <p:nvPr/>
            </p:nvSpPr>
            <p:spPr>
              <a:xfrm>
                <a:off x="1785960" y="1000080"/>
                <a:ext cx="142884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6"/>
              <p:cNvSpPr txBox="1"/>
              <p:nvPr/>
            </p:nvSpPr>
            <p:spPr>
              <a:xfrm>
                <a:off x="3606840" y="1285920"/>
                <a:ext cx="7747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7"/>
              <p:cNvSpPr txBox="1"/>
              <p:nvPr/>
            </p:nvSpPr>
            <p:spPr>
              <a:xfrm>
                <a:off x="4357800" y="1143000"/>
                <a:ext cx="22525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8"/>
              <p:cNvSpPr txBox="1"/>
              <p:nvPr/>
            </p:nvSpPr>
            <p:spPr>
              <a:xfrm>
                <a:off x="4714920" y="2357280"/>
                <a:ext cx="1557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Овал 12"/>
          <p:cNvSpPr/>
          <p:nvPr/>
        </p:nvSpPr>
        <p:spPr>
          <a:xfrm>
            <a:off x="5500800" y="2214720"/>
            <a:ext cx="928440" cy="928440"/>
          </a:xfrm>
          <a:prstGeom prst="ellipse">
            <a:avLst/>
          </a:prstGeom>
          <a:noFill/>
          <a:ln w="25560">
            <a:solidFill>
              <a:srgbClr val="76a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61" name="Прямая со стрелкой 14"/>
          <p:cNvCxnSpPr/>
          <p:nvPr/>
        </p:nvCxnSpPr>
        <p:spPr>
          <a:xfrm flipV="1">
            <a:off x="6142680" y="1999800"/>
            <a:ext cx="214920" cy="215280"/>
          </a:xfrm>
          <a:prstGeom prst="straightConnector1">
            <a:avLst/>
          </a:prstGeom>
          <a:ln w="22320">
            <a:solidFill>
              <a:srgbClr val="76a776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362" name="Object 12"/>
              <p:cNvSpPr txBox="1"/>
              <p:nvPr/>
            </p:nvSpPr>
            <p:spPr>
              <a:xfrm>
                <a:off x="3571920" y="3857760"/>
                <a:ext cx="371484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13"/>
              <p:cNvSpPr txBox="1"/>
              <p:nvPr/>
            </p:nvSpPr>
            <p:spPr>
              <a:xfrm>
                <a:off x="5072040" y="3071880"/>
                <a:ext cx="4986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Прямоугольник 22"/>
          <p:cNvSpPr/>
          <p:nvPr/>
        </p:nvSpPr>
        <p:spPr>
          <a:xfrm>
            <a:off x="3500280" y="3714840"/>
            <a:ext cx="4071960" cy="1285920"/>
          </a:xfrm>
          <a:prstGeom prst="rect">
            <a:avLst/>
          </a:prstGeom>
          <a:noFill/>
          <a:ln w="633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Овал 25"/>
          <p:cNvSpPr/>
          <p:nvPr/>
        </p:nvSpPr>
        <p:spPr>
          <a:xfrm>
            <a:off x="6143760" y="1285920"/>
            <a:ext cx="714240" cy="714240"/>
          </a:xfrm>
          <a:prstGeom prst="ellipse">
            <a:avLst/>
          </a:prstGeom>
          <a:noFill/>
          <a:ln w="25560">
            <a:solidFill>
              <a:srgbClr val="76a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TextBox 29"/>
          <p:cNvSpPr/>
          <p:nvPr/>
        </p:nvSpPr>
        <p:spPr>
          <a:xfrm>
            <a:off x="1371960" y="5143680"/>
            <a:ext cx="603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ца измерения работы в СИ: Джоуль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15"/>
              <p:cNvSpPr txBox="1"/>
              <p:nvPr/>
            </p:nvSpPr>
            <p:spPr>
              <a:xfrm>
                <a:off x="4533840" y="3390840"/>
                <a:ext cx="76320" cy="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18"/>
              <p:cNvSpPr txBox="1"/>
              <p:nvPr/>
            </p:nvSpPr>
            <p:spPr>
              <a:xfrm>
                <a:off x="2714760" y="5715000"/>
                <a:ext cx="37954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Дж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В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А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"/>
          <p:cNvPicPr/>
          <p:nvPr/>
        </p:nvPicPr>
        <p:blipFill>
          <a:blip r:embed="rId1"/>
          <a:srcRect l="11899" t="0" r="14827" b="0"/>
          <a:stretch/>
        </p:blipFill>
        <p:spPr>
          <a:xfrm>
            <a:off x="1023840" y="782640"/>
            <a:ext cx="6305760" cy="581508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2"/>
          <p:cNvSpPr/>
          <p:nvPr/>
        </p:nvSpPr>
        <p:spPr>
          <a:xfrm>
            <a:off x="142920" y="142920"/>
            <a:ext cx="878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27e56"/>
                </a:solidFill>
                <a:latin typeface="Times New Roman"/>
                <a:ea typeface="Times New Roman"/>
              </a:rPr>
              <a:t>Счетчик электрической энергии 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2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Box 2"/>
          <p:cNvSpPr/>
          <p:nvPr/>
        </p:nvSpPr>
        <p:spPr>
          <a:xfrm>
            <a:off x="642960" y="21420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27e56"/>
                </a:solidFill>
                <a:latin typeface="Times New Roman"/>
                <a:ea typeface="Times New Roman"/>
              </a:rPr>
              <a:t>Мощность электрического тока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3"/>
              <p:cNvSpPr txBox="1"/>
              <p:nvPr/>
            </p:nvSpPr>
            <p:spPr>
              <a:xfrm>
                <a:off x="3645000" y="676440"/>
                <a:ext cx="146664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12"/>
              <p:cNvSpPr txBox="1"/>
              <p:nvPr/>
            </p:nvSpPr>
            <p:spPr>
              <a:xfrm>
                <a:off x="3132000" y="1844640"/>
                <a:ext cx="278604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4" name="Rectangle 8"/>
          <p:cNvSpPr/>
          <p:nvPr/>
        </p:nvSpPr>
        <p:spPr>
          <a:xfrm>
            <a:off x="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Text Box 11"/>
          <p:cNvSpPr/>
          <p:nvPr/>
        </p:nvSpPr>
        <p:spPr>
          <a:xfrm>
            <a:off x="3276720" y="4005360"/>
            <a:ext cx="29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Р = 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76" name="Group 17"/>
          <p:cNvGrpSpPr/>
          <p:nvPr/>
        </p:nvGrpSpPr>
        <p:grpSpPr>
          <a:xfrm>
            <a:off x="2701800" y="2646360"/>
            <a:ext cx="3454560" cy="1432800"/>
            <a:chOff x="2701800" y="2646360"/>
            <a:chExt cx="3454560" cy="1432800"/>
          </a:xfrm>
        </p:grpSpPr>
        <p:sp>
          <p:nvSpPr>
            <p:cNvPr id="377" name="Text Box 9"/>
            <p:cNvSpPr/>
            <p:nvPr/>
          </p:nvSpPr>
          <p:spPr>
            <a:xfrm>
              <a:off x="4284720" y="2646360"/>
              <a:ext cx="1871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ru-RU" sz="32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r>
                <a:rPr b="0" i="1" lang="en-US" sz="5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•</a:t>
              </a:r>
              <a:r>
                <a:rPr b="0" i="1" lang="en-US" sz="5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1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8" name="Text Box 13"/>
            <p:cNvSpPr/>
            <p:nvPr/>
          </p:nvSpPr>
          <p:spPr>
            <a:xfrm>
              <a:off x="2701800" y="2955960"/>
              <a:ext cx="116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5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r>
                <a:rPr b="1" i="1" lang="ru-RU" sz="5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1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Line 14"/>
            <p:cNvSpPr/>
            <p:nvPr/>
          </p:nvSpPr>
          <p:spPr>
            <a:xfrm>
              <a:off x="3995640" y="3438360"/>
              <a:ext cx="2089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0" name="Text Box 15"/>
            <p:cNvSpPr/>
            <p:nvPr/>
          </p:nvSpPr>
          <p:spPr>
            <a:xfrm>
              <a:off x="4770360" y="3162240"/>
              <a:ext cx="371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1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81" name="Прямоугольник 22"/>
          <p:cNvSpPr/>
          <p:nvPr/>
        </p:nvSpPr>
        <p:spPr>
          <a:xfrm>
            <a:off x="3132000" y="3930480"/>
            <a:ext cx="2737080" cy="1082880"/>
          </a:xfrm>
          <a:prstGeom prst="rect">
            <a:avLst/>
          </a:prstGeom>
          <a:noFill/>
          <a:ln w="633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Line 20"/>
          <p:cNvSpPr/>
          <p:nvPr/>
        </p:nvSpPr>
        <p:spPr>
          <a:xfrm flipV="1">
            <a:off x="4716360" y="3573360"/>
            <a:ext cx="432000" cy="2872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Line 21"/>
          <p:cNvSpPr/>
          <p:nvPr/>
        </p:nvSpPr>
        <p:spPr>
          <a:xfrm flipV="1">
            <a:off x="5292720" y="3069720"/>
            <a:ext cx="431640" cy="2876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TextBox 29"/>
          <p:cNvSpPr/>
          <p:nvPr/>
        </p:nvSpPr>
        <p:spPr>
          <a:xfrm>
            <a:off x="1430640" y="5084640"/>
            <a:ext cx="601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ца измерения мощности в СИ: Ватт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3506760" y="5516640"/>
            <a:ext cx="23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т = 1 В•1 А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Rectangle 25"/>
          <p:cNvSpPr/>
          <p:nvPr/>
        </p:nvSpPr>
        <p:spPr>
          <a:xfrm>
            <a:off x="3373560" y="6072120"/>
            <a:ext cx="26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кВт = 1000 Вт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2"/>
          <p:cNvSpPr/>
          <p:nvPr/>
        </p:nvSpPr>
        <p:spPr>
          <a:xfrm>
            <a:off x="571680" y="184320"/>
            <a:ext cx="79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риборы для измерения мощности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8" name="Picture 3" descr="2840"/>
          <p:cNvPicPr/>
          <p:nvPr/>
        </p:nvPicPr>
        <p:blipFill>
          <a:blip r:embed="rId1"/>
          <a:stretch/>
        </p:blipFill>
        <p:spPr>
          <a:xfrm>
            <a:off x="250920" y="1197000"/>
            <a:ext cx="2736720" cy="27367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image1601"/>
          <p:cNvPicPr/>
          <p:nvPr/>
        </p:nvPicPr>
        <p:blipFill>
          <a:blip r:embed="rId2"/>
          <a:stretch/>
        </p:blipFill>
        <p:spPr>
          <a:xfrm>
            <a:off x="539640" y="4149720"/>
            <a:ext cx="2289240" cy="23763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"/>
          <p:cNvPicPr/>
          <p:nvPr/>
        </p:nvPicPr>
        <p:blipFill>
          <a:blip r:embed="rId3"/>
          <a:stretch/>
        </p:blipFill>
        <p:spPr>
          <a:xfrm>
            <a:off x="6143760" y="5280120"/>
            <a:ext cx="2160360" cy="15778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"/>
          <p:cNvPicPr/>
          <p:nvPr/>
        </p:nvPicPr>
        <p:blipFill>
          <a:blip r:embed="rId4"/>
          <a:stretch/>
        </p:blipFill>
        <p:spPr>
          <a:xfrm>
            <a:off x="5651640" y="1628640"/>
            <a:ext cx="2879640" cy="403236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7"/>
          <p:cNvSpPr/>
          <p:nvPr/>
        </p:nvSpPr>
        <p:spPr>
          <a:xfrm>
            <a:off x="5651640" y="105264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ваттметр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Text Box 8"/>
          <p:cNvSpPr/>
          <p:nvPr/>
        </p:nvSpPr>
        <p:spPr>
          <a:xfrm>
            <a:off x="2868120" y="2230560"/>
            <a:ext cx="17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льтметр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2828160" y="494172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мперметр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2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6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9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150840" y="189000"/>
            <a:ext cx="85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диницы работы, применяемые на практик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3"/>
              <p:cNvSpPr txBox="1"/>
              <p:nvPr/>
            </p:nvSpPr>
            <p:spPr>
              <a:xfrm>
                <a:off x="3143160" y="1428840"/>
                <a:ext cx="223200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=</m:t>
                    </m:r>
                    <m:r>
                      <m:t xml:space="preserve">Р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7" name="Text Box 4"/>
          <p:cNvSpPr/>
          <p:nvPr/>
        </p:nvSpPr>
        <p:spPr>
          <a:xfrm>
            <a:off x="2615760" y="2286000"/>
            <a:ext cx="357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1 Дж = 1 Вт∙с 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Text Box 8"/>
          <p:cNvSpPr/>
          <p:nvPr/>
        </p:nvSpPr>
        <p:spPr>
          <a:xfrm>
            <a:off x="857160" y="3500280"/>
            <a:ext cx="757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 Вт•ч = 3600Дж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 кВт•ч = 1000 Вт•ч = 3 600 000 Дж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125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96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125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125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5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6a55"/>
                </a:solidFill>
                <a:latin typeface="Times New Roman"/>
                <a:ea typeface="Calibri"/>
              </a:rPr>
              <a:t>ПЕРВИЧНАЯ ПРОВЕРКА ПОНИМАНИЯ ИЗУЧЕННОГО. </a:t>
            </a:r>
            <a:endParaRPr b="0" lang="en-US" sz="32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6840" y="2205000"/>
            <a:ext cx="800244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Что представляет собой работа электрического тока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С помощью, каких приборов можно измерить электрическую работу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3. Что представляет собой электрическая мощность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С помощью, каких приборов можно измерить мощность тока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9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1"/>
          <p:cNvSpPr/>
          <p:nvPr/>
        </p:nvSpPr>
        <p:spPr>
          <a:xfrm>
            <a:off x="222120" y="1536120"/>
            <a:ext cx="83584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50,51,52.Упр. 24 (2), 25 (2), задание 7, стр. 123. 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Единой Коллекции ЦОР: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ебный материал: </a:t>
            </a:r>
            <a:r>
              <a:rPr b="1" lang="en-US" sz="2000" spc="-1" strike="noStrike" u="sng">
                <a:solidFill>
                  <a:srgbClr val="db5353"/>
                </a:solidFill>
                <a:uFillTx/>
                <a:latin typeface="Times New Roman"/>
                <a:ea typeface="Calibri"/>
                <a:hlinkClick r:id="rId1"/>
              </a:rPr>
              <a:t>http://files.school-collection.edu.ru/dlrstore/669ba075-e921-11dc-95ff-0800200c9a66/3_19.swf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ст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://files.school-collection.edu.ru/dlrstore/669b7963-e921-11dc-95ff-0800200c9a66/index_listing.html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Rectangle 2"/>
          <p:cNvSpPr/>
          <p:nvPr/>
        </p:nvSpPr>
        <p:spPr>
          <a:xfrm>
            <a:off x="2018520" y="281880"/>
            <a:ext cx="54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машнее задание </a:t>
            </a: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12:47:29Z</dcterms:created>
  <dc:creator>Ладанова И.В.</dc:creator>
  <dc:description/>
  <dc:language>en-US</dc:language>
  <cp:lastModifiedBy/>
  <dcterms:modified xsi:type="dcterms:W3CDTF">2013-08-04T03:12:44Z</dcterms:modified>
  <cp:revision>94</cp:revision>
  <dc:subject/>
  <dc:title/>
</cp:coreProperties>
</file>